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93400" y="704880"/>
            <a:ext cx="4691160" cy="351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0" y="8913960"/>
            <a:ext cx="3067200" cy="46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400824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531E47-183D-4D44-9657-B1F61FEF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68667E-F463-43F4-8493-C77C5307B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73BD5B-EA58-407C-BDB5-046FD399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389B23-9763-42D4-94A5-50980CA6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24F1327-843F-48AB-B9BF-A964C95F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1F19B3-DC25-4126-AA13-9258CAAB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304-39A2-43DE-81F3-E0856FEA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0C4-006B-4F51-96D0-3C51238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8DE-9F20-4A01-9656-50EB214E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395-406E-4CA5-885A-3BBBA4F6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6B9C-2C75-4A6F-9A3A-E3A03B5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824F-FA3F-453B-8FED-E5101C62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8028-B630-4909-9CCD-D3A1FB6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CD50-87E6-4571-9AB0-15593CA1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127-9F76-438C-982D-56D2D36F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6539-78A8-4FD6-AAE6-B446F938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5D9F-DBB7-4979-A019-6FF15CC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202-9F91-418E-A7D4-B0E825F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F0C5-7DE3-4705-96DC-E5F8AB5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866F-B796-44B3-8677-F6988DD3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BA8-E2F5-446E-8B5C-69CD08C4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1772-738E-460C-8CF2-B8267B9C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80D4-7D51-4F1F-8413-D6B3E7F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B0D3-2726-47FE-B37B-FA5896F7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7DB1-7C22-4629-80DB-F8CA4F3D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A54E-AC47-41DE-9F49-45BB32F6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AA88-A3F0-418E-9195-DA5E8CC5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A881-0A62-494B-B9C8-DAFCA34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513-5420-4F81-B5AD-70EE8BA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1161-18CC-4546-9718-F82A92F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515C-91FD-4AD8-89FD-E739C73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8764-F1E1-44F8-A474-51BAF78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3E85-08F3-4DBA-BE7E-0DCE121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E620-8CEF-4FA3-A7BF-06474971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2A11-BFCD-49E9-8444-ADF55C85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3309-6168-41D3-9D8E-64A359AD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31DC5-93C0-4D54-A577-172F95BE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F791E-7EA7-4EAD-A54E-7F43848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1F689-2BB4-4B8E-865D-6EF12B9B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813-12EE-424C-9D9D-7CCAC799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5EE33-AA31-4AA5-8125-934FA6C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BDAE8-3953-43E6-A305-AC487311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931CF-B302-4D28-8CD1-DA33216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75A4E-29F3-4FFF-8C23-E44DB08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4EB08-5AC2-490A-BD2E-83BD1451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8DF08-79FE-4D56-BBDE-AA53FB5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7B5F8-12D8-4511-B9EC-258FA0E3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27C18-480B-4F50-B8C1-DAB66C61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3CF71-6877-4550-8420-43BA6489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1D31-10E3-4E39-9E1C-C9116AC1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2FF-4CB1-4367-9797-9238AE25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84F1-9B8A-477F-AD70-E231361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FE62-1F21-4A50-9FAC-79496DB6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380A0-AD7C-466C-A014-8FB94A3F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6958-8354-4A95-8E59-655B1C8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634C-C644-4668-9061-AC5BDA0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6B2C-B21A-4327-82D5-F5E3C79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B89D-7A63-468C-9712-F312344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6D9A-0F71-4035-A973-B3D9D60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B2AF-EA1F-4647-91DA-10BC943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D0902-B0F2-44BE-8905-FB0E64C8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579-DBFD-47D8-A0DC-DAB61C0F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15AF-CD43-47C6-AEC0-04115BB9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278B8-A8A7-4E73-A891-12144397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D6D4D-88B6-4C0F-A3C4-9C8898B5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D0C31-8E9A-4BC8-AC8F-4036721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E0B33-65B1-4BAB-81AB-A109BE8F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C9A85-9156-47B0-B8D7-BB71031C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FDCEF-B7CA-4B53-A205-4FF87B4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49F9F-9940-4DA0-81EC-24C276C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CA2F5-5859-4A17-B4F0-F78C9B6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43DAF-2D3A-4026-B253-6E67CED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BA7-E218-4C81-B114-EBBA1B7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34987-6B1D-4EB3-B499-BB4D6C5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E2ACA-E83E-47D4-B4A8-06C4423F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5911A-8067-4C74-B64E-DDD27F17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85852-7526-4394-AC7A-B2BA980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B3D45-2BDB-4C9A-B8D2-AA8192C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A5159-6374-4207-B586-5E6175E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91367-1907-4C3D-87B5-7B658C9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5C1AF-7DBD-48E8-A860-14AA522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8E333-B9F5-4351-A919-7F49334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AEC85-FA15-4211-89FC-C998881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845-8B8A-453B-A02A-D9168C1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01D99-B9BA-41A5-8072-98289CC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F6160-D95A-424A-8A01-BA3E31C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7536C-7306-4FA8-B326-1D42F6BC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F6431-5A45-4352-8FE0-09BBA210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69B75-2AE9-4AFD-B72B-B4552801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16686-58B0-4407-8901-75D19653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0F781F-3B45-4266-B337-6884273D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58A24-190C-4866-8230-CA40257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E0816-D764-4BBE-B5DD-CA782C9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A3D54-863C-46D0-B8E6-59D74DDB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84B-A135-463F-9A2A-6EBA857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67E80-F58C-44FD-8BF0-0AFBFEBF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8FADF-641D-4016-86E5-8B4B99EF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7FF2C6-5704-4DB5-98B3-A8CB982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8EEDE-2B8F-40F1-B2B5-B2DFF68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EC072-BCB6-413B-BBB4-8C4461FB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7637C-DDAB-43D4-8B15-9A77B614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8CB16A-7AED-46EF-BBA1-BDFAECE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77CD-8E6B-42F3-A4EF-5114F5CF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F45-E74F-4225-8ADD-499601A96B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7FD-0272-4C9E-89D6-D77581F4E6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2088-4A39-45FD-9DA9-670742292F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97D2-C2D9-4375-A5FA-CE89F9331B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1B9-E2BD-4DF4-97F5-01508B8243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49D-D77D-45A9-9F84-4EE49D4BEC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953-6951-42BD-8A98-3C006804CE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A-, TRAN-, TRANS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143000"/>
            <a:ext cx="3814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cro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yo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roug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43040" y="1295280"/>
            <a:ext cx="4272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versable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able-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capable of; that which) 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ver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 root meaning to turn; to change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lucent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luc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to light; to shine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atlanti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crip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pi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pla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cen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transplant.jpg"/>
          <p:cNvPicPr/>
          <p:nvPr/>
        </p:nvPicPr>
        <p:blipFill>
          <a:blip r:embed="rId1"/>
          <a:stretch/>
        </p:blipFill>
        <p:spPr>
          <a:xfrm>
            <a:off x="2209680" y="2819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translucetn.jpg"/>
          <p:cNvPicPr/>
          <p:nvPr/>
        </p:nvPicPr>
        <p:blipFill>
          <a:blip r:embed="rId2"/>
          <a:stretch/>
        </p:blipFill>
        <p:spPr>
          <a:xfrm>
            <a:off x="6781680" y="0"/>
            <a:ext cx="2048040" cy="1104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transit.jpg"/>
          <p:cNvPicPr/>
          <p:nvPr/>
        </p:nvPicPr>
        <p:blipFill>
          <a:blip r:embed="rId3"/>
          <a:stretch/>
        </p:blipFill>
        <p:spPr>
          <a:xfrm>
            <a:off x="2057400" y="5181480"/>
            <a:ext cx="243828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transcript.jpg"/>
          <p:cNvPicPr/>
          <p:nvPr/>
        </p:nvPicPr>
        <p:blipFill>
          <a:blip r:embed="rId4"/>
          <a:stretch/>
        </p:blipFill>
        <p:spPr>
          <a:xfrm>
            <a:off x="7010280" y="4286160"/>
            <a:ext cx="2133720" cy="2571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transatlantic.jpg"/>
          <p:cNvPicPr/>
          <p:nvPr/>
        </p:nvPicPr>
        <p:blipFill>
          <a:blip r:embed="rId5"/>
          <a:stretch/>
        </p:blipFill>
        <p:spPr>
          <a:xfrm>
            <a:off x="228600" y="3124080"/>
            <a:ext cx="119052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I, TR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51920" y="13716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ree tim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114800" y="14479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dent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one who; doing or being someone)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tooth or teeth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later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lingu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logy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logy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science or study of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plet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le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thickness or to fold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cyc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poli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oli=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root meaning citi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plic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6" descr="trigonometry.jpg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triden.jpg"/>
          <p:cNvPicPr/>
          <p:nvPr/>
        </p:nvPicPr>
        <p:blipFill>
          <a:blip r:embed="rId2"/>
          <a:stretch/>
        </p:blipFill>
        <p:spPr>
          <a:xfrm>
            <a:off x="8315280" y="5286240"/>
            <a:ext cx="828720" cy="1571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tricycle.jpg"/>
          <p:cNvPicPr/>
          <p:nvPr/>
        </p:nvPicPr>
        <p:blipFill>
          <a:blip r:embed="rId3"/>
          <a:stretch/>
        </p:blipFill>
        <p:spPr>
          <a:xfrm>
            <a:off x="2895480" y="274320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trio.jpg"/>
          <p:cNvPicPr/>
          <p:nvPr/>
        </p:nvPicPr>
        <p:blipFill>
          <a:blip r:embed="rId4"/>
          <a:stretch/>
        </p:blipFill>
        <p:spPr>
          <a:xfrm>
            <a:off x="457200" y="3124080"/>
            <a:ext cx="1200240" cy="22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triplets.jpg"/>
          <p:cNvPicPr/>
          <p:nvPr/>
        </p:nvPicPr>
        <p:blipFill>
          <a:blip r:embed="rId5"/>
          <a:stretch/>
        </p:blipFill>
        <p:spPr>
          <a:xfrm>
            <a:off x="2590920" y="4724280"/>
            <a:ext cx="1514520" cy="151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, U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447920"/>
            <a:ext cx="396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animous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ni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root meaning life; spirit; soul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corn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un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one; single)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r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horn; horned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ped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e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foot or feet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cyc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f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versal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(al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suffix meaning of or pertaining to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6" descr="unicorn.jpg"/>
          <p:cNvPicPr/>
          <p:nvPr/>
        </p:nvPicPr>
        <p:blipFill>
          <a:blip r:embed="rId1"/>
          <a:stretch/>
        </p:blipFill>
        <p:spPr>
          <a:xfrm>
            <a:off x="609480" y="4495680"/>
            <a:ext cx="2667240" cy="1524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unicycle.jpg"/>
          <p:cNvPicPr/>
          <p:nvPr/>
        </p:nvPicPr>
        <p:blipFill>
          <a:blip r:embed="rId2"/>
          <a:stretch/>
        </p:blipFill>
        <p:spPr>
          <a:xfrm>
            <a:off x="3505320" y="495288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universal.jpg"/>
          <p:cNvPicPr/>
          <p:nvPr/>
        </p:nvPicPr>
        <p:blipFill>
          <a:blip r:embed="rId3"/>
          <a:stretch/>
        </p:blipFill>
        <p:spPr>
          <a:xfrm>
            <a:off x="1981080" y="259092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unanimous.jpg"/>
          <p:cNvPicPr/>
          <p:nvPr/>
        </p:nvPicPr>
        <p:blipFill>
          <a:blip r:embed="rId4"/>
          <a:stretch/>
        </p:blipFill>
        <p:spPr>
          <a:xfrm>
            <a:off x="6324480" y="0"/>
            <a:ext cx="257184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place of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bstitut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iceroy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roy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king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ice Presid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ice admi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6" descr="viceroy.jpg"/>
          <p:cNvPicPr/>
          <p:nvPr/>
        </p:nvPicPr>
        <p:blipFill>
          <a:blip r:embed="rId1"/>
          <a:stretch/>
        </p:blipFill>
        <p:spPr>
          <a:xfrm>
            <a:off x="6858000" y="4038480"/>
            <a:ext cx="1362240" cy="2286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vice president.jpg"/>
          <p:cNvPicPr/>
          <p:nvPr/>
        </p:nvPicPr>
        <p:blipFill>
          <a:blip r:embed="rId2"/>
          <a:stretch/>
        </p:blipFill>
        <p:spPr>
          <a:xfrm>
            <a:off x="3276720" y="342900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vice admiral.jpg"/>
          <p:cNvPicPr/>
          <p:nvPr/>
        </p:nvPicPr>
        <p:blipFill>
          <a:blip r:embed="rId3"/>
          <a:stretch/>
        </p:blipFill>
        <p:spPr>
          <a:xfrm>
            <a:off x="838080" y="3809880"/>
            <a:ext cx="154332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4-30T15:45:44Z</dcterms:modified>
  <cp:revision>26</cp:revision>
  <dc:subject/>
  <dc:title>Roots List #1</dc:title>
</cp:coreProperties>
</file>